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FBF4-26DD-45E6-BDF6-C13748ED89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. Поскольку на сегодняшний день продукты фирмы Nowell не пользуются большим успехом на рынке серверных систем, данный проект был создан с целью абстрогироватся от программного обеспечения которое установлено на сервере (контролере домена(ов)) по этому данный програмный продукт может функционировать также под управлним серверов: Windows NT и  Unix. Однако имеющиеся на сегодняшний день большое количество подобных программ ставит перед человеком, проводящим защиту ОС  Windows 95, не тривиальную задачу - ввести большое количество данных при интуитивно не понятном и сложном интерфейсе, не позволяющем быстро и точно защитить требующиеся объекты.  Указываются достоинства и недостатки существующих программных продуктов, позволяющих производить защиту объектов операционной системы WINDOWS95. Указываются пути дальнейшего расширения возможностей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6188C-6AA4-4640-8C67-1CC908ED9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8190-151C-49E1-B4F9-7CE8C2D0A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CA72-4F5D-4966-8A66-A11399FFB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CBA2-4E97-4B58-A532-97D4C2A74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52A9C-F54B-4623-89E1-1C745693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CEF20-2F2E-4CD9-B7F7-5C4997E2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95934-47FB-4F07-9AF1-3DD68932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8F3BC-31C4-4352-B6A0-1CFE3A30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881A9-672B-4EA6-8FFD-BA1C3DCF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EB020-0CE0-4136-8AFD-4D097ACF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3F191-BBD7-49B3-A7CA-3872C8D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5789-2C72-40CA-B38A-1D97CDAB6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7B0EC-8368-451A-90D3-04AB7B93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DD3AD-5D3B-4831-9204-0D2292BD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DD524-7B92-49BE-BF4B-42A4F698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19E4A-5E8A-41FC-97E6-95DB91EF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70CED-B21A-42B5-B851-33C8B9A0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3B01-753C-4F40-9018-785246F9C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ED2C-8E98-49B8-9FE8-FC621F51E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3E98-DA9D-4C9B-96D8-3381E1B4E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27E6-A52A-44C7-B68A-323FE7CC5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40621-41B5-42F2-8869-0FC92A294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BC3F-2BB4-40BB-9E5A-ECD5362B9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78C1-8E1E-495D-A869-2CB6EE85B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8229-B5E8-4A12-8E5F-0D771F491E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5665-9396-4C0E-A5CB-246216DF7D20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9640-E1DE-4970-9DFA-B967A6DC1C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ВЫПУСКНАЯ КВАЛИФИКАЦИОННАЯ РАБОТА БАКАЛАВРА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тов Д.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ПРОГРАММА ЗАЩИТЫ ОБЬЕКТОВ ОПЕРАЦИОННОЙ СИСТЕМЫ WINDOWS95, РАБОТАЮЩЕЙ В МНОГОПОЛЬЗОВАТЕЛЬСКОМ РЕЖИМЕ ПОД УПРАВЛЕНИЕМ СЕРВЕРА Novell NetWare (Windows NT, Un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C719B1-AC56-415F-BA04-4770F280EA70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мер работы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960" y="2479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9440" y="2514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05520" y="3048120"/>
          <a:ext cx="317664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048120"/>
                    <a:ext cx="317664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76720"/>
          <a:ext cx="3908520" cy="23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3908520" cy="23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2800" y="137160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ец през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-5868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868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56560" y="-22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Times New Roman"/>
                <a:hlinkClick r:id="rId3" action="ppaction://hlinksldjump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1764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4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4680" y="30132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5913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1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5961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61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311160" y="301320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исы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46353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35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97560" y="1600200"/>
          <a:ext cx="454644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600200"/>
                    <a:ext cx="4546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13720" y="49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специали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592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2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34480" y="24796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Системы защиты ОС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Windows 95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56959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 (Windows NT, Un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E59F16-098E-4817-9584-B4683469537D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огноз использования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Офисы различных 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Рабочее место специалиста узкого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Рабочее место 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разработки данного проек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К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рока службы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безотказного функционирования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удобства работы оператора с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зор существующих систем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Tw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ccessForbiten4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PC Deadbolt 3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ый модуль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eg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7534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рия создания и проблемы вызвавшие необходимость данной рабо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функционирования ПК в ЛВС универс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, потерявшие актуа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ъём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зка с сервера по ЛВ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лючение жестких дисков на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9800" y="563868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сто программы в модель взаимодействия открытых систем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SI/I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0481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кладн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ь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1148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ансов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6483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ев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1722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  <a:endCxn id="143" idx="3"/>
          </p:cNvCxnSpPr>
          <p:nvPr/>
        </p:nvCxnSpPr>
        <p:spPr>
          <a:xfrm flipV="1">
            <a:off x="4343400" y="5866920"/>
            <a:ext cx="2160" cy="4579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2" idx="1"/>
          </p:cNvCxnSpPr>
          <p:nvPr/>
        </p:nvCxnSpPr>
        <p:spPr>
          <a:xfrm flipH="1" rot="10800000">
            <a:off x="379800" y="5333400"/>
            <a:ext cx="2520" cy="5338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3"/>
            <a:endCxn id="141" idx="3"/>
          </p:cNvCxnSpPr>
          <p:nvPr/>
        </p:nvCxnSpPr>
        <p:spPr>
          <a:xfrm flipV="1">
            <a:off x="4343400" y="4800240"/>
            <a:ext cx="2160" cy="5342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1"/>
            <a:endCxn id="140" idx="1"/>
          </p:cNvCxnSpPr>
          <p:nvPr/>
        </p:nvCxnSpPr>
        <p:spPr>
          <a:xfrm flipH="1" rot="10800000">
            <a:off x="379800" y="426636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77120" y="3276720"/>
            <a:ext cx="2057400" cy="1143000"/>
          </a:xfrm>
          <a:prstGeom prst="flowChartInputOutpu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0" idx="3"/>
            <a:endCxn id="149" idx="4"/>
          </p:cNvCxnSpPr>
          <p:nvPr/>
        </p:nvCxnSpPr>
        <p:spPr>
          <a:xfrm>
            <a:off x="4343400" y="4267080"/>
            <a:ext cx="3162960" cy="153360"/>
          </a:xfrm>
          <a:prstGeom prst="bentConnector4">
            <a:avLst>
              <a:gd name="adj1" fmla="val 33727"/>
              <a:gd name="adj2" fmla="val 2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1"/>
            <a:endCxn id="139" idx="3"/>
          </p:cNvCxnSpPr>
          <p:nvPr/>
        </p:nvCxnSpPr>
        <p:spPr>
          <a:xfrm rot="5400000">
            <a:off x="5695200" y="1924200"/>
            <a:ext cx="457920" cy="3162960"/>
          </a:xfrm>
          <a:prstGeom prst="bentConnector4">
            <a:avLst>
              <a:gd name="adj1" fmla="val -49960"/>
              <a:gd name="adj2" fmla="val 662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9" idx="1"/>
            <a:endCxn id="138" idx="1"/>
          </p:cNvCxnSpPr>
          <p:nvPr/>
        </p:nvCxnSpPr>
        <p:spPr>
          <a:xfrm flipH="1" rot="10800000">
            <a:off x="379800" y="319968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3"/>
            <a:endCxn id="137" idx="3"/>
          </p:cNvCxnSpPr>
          <p:nvPr/>
        </p:nvCxnSpPr>
        <p:spPr>
          <a:xfrm flipV="1">
            <a:off x="4343400" y="2590200"/>
            <a:ext cx="2160" cy="61020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тановление сеансового соединен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228600"/>
            <a:ext cx="60199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447920"/>
            <a:ext cx="4495680" cy="1904760"/>
          </a:xfrm>
          <a:prstGeom prst="flowChartDecision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4400" y="1447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разре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680" y="13716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ступе отказ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19051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ан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5" idx="2"/>
            <a:endCxn id="156" idx="0"/>
          </p:cNvCxnSpPr>
          <p:nvPr/>
        </p:nvCxnSpPr>
        <p:spPr>
          <a:xfrm>
            <a:off x="4762080" y="609120"/>
            <a:ext cx="108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1"/>
            <a:endCxn id="159" idx="0"/>
          </p:cNvCxnSpPr>
          <p:nvPr/>
        </p:nvCxnSpPr>
        <p:spPr>
          <a:xfrm rot="10800000">
            <a:off x="951840" y="2285280"/>
            <a:ext cx="1562760" cy="115200"/>
          </a:xfrm>
          <a:prstGeom prst="bentConnector4">
            <a:avLst>
              <a:gd name="adj1" fmla="val 19493"/>
              <a:gd name="adj2" fmla="val 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324480" y="3048120"/>
            <a:ext cx="28195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ост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аталогу с фай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3"/>
            <a:endCxn id="162" idx="0"/>
          </p:cNvCxnSpPr>
          <p:nvPr/>
        </p:nvCxnSpPr>
        <p:spPr>
          <a:xfrm>
            <a:off x="7009920" y="2400120"/>
            <a:ext cx="7246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943600" y="5029200"/>
            <a:ext cx="32004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рузка шифрова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2" idx="2"/>
            <a:endCxn id="164" idx="0"/>
          </p:cNvCxnSpPr>
          <p:nvPr/>
        </p:nvCxnSpPr>
        <p:spPr>
          <a:xfrm rot="5400000">
            <a:off x="7180920" y="4476600"/>
            <a:ext cx="915120" cy="191160"/>
          </a:xfrm>
          <a:prstGeom prst="bentConnector3">
            <a:avLst>
              <a:gd name="adj1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048120" y="5029200"/>
            <a:ext cx="259056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шифраци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4" idx="1"/>
            <a:endCxn id="166" idx="3"/>
          </p:cNvCxnSpPr>
          <p:nvPr/>
        </p:nvCxnSpPr>
        <p:spPr>
          <a:xfrm rot="10800000">
            <a:off x="5637960" y="5523840"/>
            <a:ext cx="3056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5029200"/>
            <a:ext cx="27432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уск программ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е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1"/>
            <a:endCxn id="168" idx="3"/>
          </p:cNvCxnSpPr>
          <p:nvPr/>
        </p:nvCxnSpPr>
        <p:spPr>
          <a:xfrm flipH="1">
            <a:off x="2742480" y="55242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09680" y="6477120"/>
            <a:ext cx="69343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чищенная 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8" idx="2"/>
            <a:endCxn id="170" idx="1"/>
          </p:cNvCxnSpPr>
          <p:nvPr/>
        </p:nvCxnSpPr>
        <p:spPr>
          <a:xfrm flipH="1" rot="16200000">
            <a:off x="1466640" y="5924160"/>
            <a:ext cx="648360" cy="838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9" idx="2"/>
            <a:endCxn id="156" idx="2"/>
          </p:cNvCxnSpPr>
          <p:nvPr/>
        </p:nvCxnSpPr>
        <p:spPr>
          <a:xfrm flipH="1" rot="16200000">
            <a:off x="2855520" y="1448280"/>
            <a:ext cx="2520" cy="3810600"/>
          </a:xfrm>
          <a:prstGeom prst="bentConnector3">
            <a:avLst>
              <a:gd name="adj1" fmla="val 545833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3T19:14:48Z</dcterms:created>
  <dc:creator>Demon13</dc:creator>
  <dc:description/>
  <cp:keywords>ЗАЩИТА WINDOWS95 МНОГОПОЛЬЗОВАТЕЛЬСКОМ РЕЖИМЕ СЕРВЕР Novell NetWare Windows NT  Unix</cp:keywords>
  <dc:language>en-US</dc:language>
  <cp:lastModifiedBy>Demon13</cp:lastModifiedBy>
  <dcterms:modified xsi:type="dcterms:W3CDTF">2000-06-28T18:45:47Z</dcterms:modified>
  <cp:revision>33</cp:revision>
  <dc:subject>ПРОГРАММА ЗАЩИТЫ ОБЬЕКТОВ ОПЕРАЦИОННОЙ СИСТЕМЫ WINDOWS95, РАБОТАЮЩЕЙ В МНОГОПОЛЬЗОВАТЕЛЬСКОМ РЕЖИМЕ ПОД УПРАВЛЕНИЕМ СЕРВЕРА Novell NetWare (Windows NT, Unix)</dc:subject>
  <dc:title>ВЫПУСКНАЯ КВАЛИФИКАЦИОННАЯ РАБОТА БАКАЛАВ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Группа">
    <vt:lpwstr>3ИТ4-26</vt:lpwstr>
  </property>
  <property fmtid="{D5CDD505-2E9C-101B-9397-08002B2CF9AE}" pid="3" name="Издатель">
    <vt:lpwstr>Litsentov D. B.</vt:lpwstr>
  </property>
  <property fmtid="{D5CDD505-2E9C-101B-9397-08002B2CF9AE}" pid="4" name="Почтовое отделение">
    <vt:lpwstr>Demon13@altavista.net</vt:lpwstr>
  </property>
  <property fmtid="{D5CDD505-2E9C-101B-9397-08002B2CF9AE}" pid="5" name="Проверено">
    <vt:lpwstr>июнь 2000</vt:lpwstr>
  </property>
  <property fmtid="{D5CDD505-2E9C-101B-9397-08002B2CF9AE}" pid="6" name="Проект">
    <vt:lpwstr>ПРОГРАММА ЗАЩИТЫ ОБЬЕКТОВ ОПЕРАЦИОННОЙ СИСТЕМЫ WINDOWS95, РАБОТАЮЩЕЙ В МНОГОПОЛЬЗОВАТЕЛЬСКОМ РЕЖИМЕ ПОД УПРАВЛЕНИЕМ СЕРВЕРА Novell NetWare (Windows NT, Unix)</vt:lpwstr>
  </property>
  <property fmtid="{D5CDD505-2E9C-101B-9397-08002B2CF9AE}" pid="7" name="Расположение">
    <vt:lpwstr>Комп Demon13</vt:lpwstr>
  </property>
  <property fmtid="{D5CDD505-2E9C-101B-9397-08002B2CF9AE}" pid="8" name="Редактор">
    <vt:lpwstr>Еремеева Т. Ю.</vt:lpwstr>
  </property>
  <property fmtid="{D5CDD505-2E9C-101B-9397-08002B2CF9AE}" pid="9" name="Состояние">
    <vt:lpwstr>Закрыт</vt:lpwstr>
  </property>
  <property fmtid="{D5CDD505-2E9C-101B-9397-08002B2CF9AE}" pid="10" name="Телефон">
    <vt:lpwstr>+7 (095) 979 1504</vt:lpwstr>
  </property>
  <property fmtid="{D5CDD505-2E9C-101B-9397-08002B2CF9AE}" pid="11" name="Цель">
    <vt:lpwstr>Демонстарция на защите диплома бакалавра</vt:lpwstr>
  </property>
  <property fmtid="{D5CDD505-2E9C-101B-9397-08002B2CF9AE}" pid="12" name="Язык">
    <vt:lpwstr>русский</vt:lpwstr>
  </property>
</Properties>
</file>