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435-B32C-4758-983A-3C9C7BFA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A3B-89CC-4760-BD44-8622F14C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092-1577-40BB-A7D4-0EB7E5EE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5E5-EEEA-4DE8-8151-F5F3A604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D90-828F-4840-BF90-F252F65C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0A8-87A7-4DB5-93DD-329532E0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032-039E-4B56-B79B-9CC422C5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6E5-3FD5-46FE-B291-4B85C94D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C1E-F7B4-4169-9226-DA35D599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040-BBAE-4627-A8DF-43895206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C07-E109-4D92-88DE-69AAEB18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3A8-9C2B-4C55-BFF2-96DB2953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355D-C31E-45BF-A136-69A065833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529200"/>
            <a:ext cx="7176960" cy="5704920"/>
            <a:chOff x="1143000" y="529200"/>
            <a:chExt cx="7176960" cy="5704920"/>
          </a:xfrm>
        </p:grpSpPr>
        <p:grpSp>
          <p:nvGrpSpPr>
            <p:cNvPr id="42" name=""/>
            <p:cNvGrpSpPr/>
            <p:nvPr/>
          </p:nvGrpSpPr>
          <p:grpSpPr>
            <a:xfrm>
              <a:off x="1143000" y="529200"/>
              <a:ext cx="7176960" cy="4433400"/>
              <a:chOff x="1143000" y="529200"/>
              <a:chExt cx="7176960" cy="4433400"/>
            </a:xfrm>
          </p:grpSpPr>
          <p:sp>
            <p:nvSpPr>
              <p:cNvPr id="43" name=""/>
              <p:cNvSpPr/>
              <p:nvPr/>
            </p:nvSpPr>
            <p:spPr>
              <a:xfrm>
                <a:off x="2346120" y="44611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3657600" y="2676600"/>
                <a:ext cx="1904760" cy="685800"/>
                <a:chOff x="3657600" y="2676600"/>
                <a:chExt cx="1904760" cy="685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657600" y="2676600"/>
                  <a:ext cx="1904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945240" y="2764080"/>
                  <a:ext cx="139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СургутГазП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аппа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rot="17104200">
                <a:off x="3235320" y="971280"/>
                <a:ext cx="152280" cy="2667240"/>
              </a:xfrm>
              <a:prstGeom prst="downArrow">
                <a:avLst>
                  <a:gd name="adj1" fmla="val 49676"/>
                  <a:gd name="adj2" fmla="val 37025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4371600">
                <a:off x="5720040" y="1129680"/>
                <a:ext cx="149400" cy="2351160"/>
              </a:xfrm>
              <a:prstGeom prst="downArrow">
                <a:avLst>
                  <a:gd name="adj1" fmla="val 49676"/>
                  <a:gd name="adj2" fmla="val 3326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392600">
                <a:off x="3830400" y="457200"/>
                <a:ext cx="136800" cy="2422800"/>
              </a:xfrm>
              <a:prstGeom prst="downArrow">
                <a:avLst>
                  <a:gd name="adj1" fmla="val 49676"/>
                  <a:gd name="adj2" fmla="val 374381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53600">
                <a:off x="5081040" y="555480"/>
                <a:ext cx="152640" cy="2209680"/>
              </a:xfrm>
              <a:prstGeom prst="downArrow">
                <a:avLst>
                  <a:gd name="adj1" fmla="val 49676"/>
                  <a:gd name="adj2" fmla="val 30601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895480" y="529200"/>
                <a:ext cx="1096920" cy="609840"/>
                <a:chOff x="2895480" y="529200"/>
                <a:chExt cx="1096920" cy="6098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95480" y="619200"/>
                  <a:ext cx="109692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34400">
                  <a:off x="2947680" y="6346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941000" y="544320"/>
                <a:ext cx="1471320" cy="583200"/>
                <a:chOff x="4941000" y="544320"/>
                <a:chExt cx="1471320" cy="583200"/>
              </a:xfrm>
            </p:grpSpPr>
            <p:sp>
              <p:nvSpPr>
                <p:cNvPr id="55" name=""/>
                <p:cNvSpPr/>
                <p:nvPr/>
              </p:nvSpPr>
              <p:spPr>
                <a:xfrm rot="197400">
                  <a:off x="4952880" y="619200"/>
                  <a:ext cx="1447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663600">
                  <a:off x="5198400" y="6364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143000" y="1183320"/>
                <a:ext cx="2193840" cy="1113120"/>
                <a:chOff x="1143000" y="1183320"/>
                <a:chExt cx="2193840" cy="11131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533600"/>
                  <a:ext cx="21938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8885600">
                  <a:off x="1670040" y="1540440"/>
                  <a:ext cx="1172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486400" y="1316520"/>
                <a:ext cx="2833560" cy="991080"/>
                <a:chOff x="5486400" y="1316520"/>
                <a:chExt cx="2833560" cy="99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486400" y="1609560"/>
                  <a:ext cx="2833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712000">
                  <a:off x="6401880" y="161244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733560" y="4505400"/>
                <a:ext cx="1600200" cy="45720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ГНИ Р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43400" y="3362400"/>
                <a:ext cx="485640" cy="1066680"/>
              </a:xfrm>
              <a:prstGeom prst="downArrow">
                <a:avLst>
                  <a:gd name="adj1" fmla="val 50000"/>
                  <a:gd name="adj2" fmla="val 54911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76520" y="5410080"/>
              <a:ext cx="4857120" cy="824040"/>
              <a:chOff x="1676520" y="5410080"/>
              <a:chExt cx="4857120" cy="824040"/>
            </a:xfrm>
          </p:grpSpPr>
          <p:sp>
            <p:nvSpPr>
              <p:cNvPr id="66" name=""/>
              <p:cNvSpPr/>
              <p:nvPr/>
            </p:nvSpPr>
            <p:spPr>
              <a:xfrm>
                <a:off x="1676520" y="550080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599616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49320" y="5410080"/>
                <a:ext cx="28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от подраздел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в налогову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51:45Z</dcterms:created>
  <dc:creator>Геттих М.В.</dc:creator>
  <dc:description/>
  <dc:language>en-US</dc:language>
  <cp:lastModifiedBy>Геттих М.В.</cp:lastModifiedBy>
  <cp:lastPrinted>1999-09-13T06:44:42Z</cp:lastPrinted>
  <dcterms:modified xsi:type="dcterms:W3CDTF">1999-09-17T09:53:14Z</dcterms:modified>
  <cp:revision>9</cp:revision>
  <dc:subject/>
  <dc:title>Заголовок слайда отсутствует</dc:title>
</cp:coreProperties>
</file>