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FC7-BB6C-4B2F-84E3-8A1BF07A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FEF3-A428-489F-AF97-108908CF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70D-8B54-417D-8691-4C11894D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0FC-3D72-4946-A27C-99884A11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181-F8D2-4D7B-9219-33B8464E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9B8-BAB8-4CFD-9CA2-9052E559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A82-7537-4182-A5C9-126F6260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14E-355A-4404-85A3-3308CE96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5B07-2890-4BCF-B75B-32D30C53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33E-9EBB-45E2-9596-859657D1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26B-D14D-4F8A-BA64-4539E035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B14-29F1-4D3A-90E6-ED4563ED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9D2E4125-3020-4901-8B75-A25F64D413A3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8360" y="1596960"/>
            <a:ext cx="31265640" cy="2103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2120" y="503280"/>
            <a:ext cx="30721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72680" y="20267640"/>
            <a:ext cx="17143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зработал: студент АСОИУ Геттих М.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уководитель: Гл.конструктор НПО «Автоматика» Чегодаев В.Н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38240"/>
            <a:ext cx="320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Дипломный проект</a:t>
            </a:r>
            <a:r>
              <a:rPr b="0" lang="en-US" sz="45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0954880"/>
            <a:ext cx="3705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ургут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8280" y="3505320"/>
            <a:ext cx="9535320" cy="91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недрение системы позволит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02160" y="18897480"/>
            <a:ext cx="886140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оимость разработ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68 000 руб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рок окупаемости 8 ме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тформа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744200" y="8534520"/>
          <a:ext cx="13235040" cy="66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4200" y="8534520"/>
                    <a:ext cx="13235040" cy="66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371600" y="4572000"/>
            <a:ext cx="15849720" cy="37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дготовить отчеты в ГНИ за 1 ден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Резко снизить вероятность штрафо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лучить полную информацию о заработной плате в любом разрез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2400" y="10134720"/>
            <a:ext cx="6856200" cy="80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Основные возможности: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6640" y="10972800"/>
            <a:ext cx="10935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t">
            <a:spAutoFit/>
          </a:bodyPr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Сбор информации о дохода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Перерасчет подоходного налог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Формирование отчетов в ГНИ Р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Выдача отчетов для ОТи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Работа с плановым отдел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(в перспективе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40360" y="6035760"/>
            <a:ext cx="4431960" cy="2009520"/>
          </a:xfrm>
          <a:prstGeom prst="wedgeRoundRectCallout">
            <a:avLst>
              <a:gd name="adj1" fmla="val -71347"/>
              <a:gd name="adj2" fmla="val 253157"/>
              <a:gd name="adj3" fmla="val 16667"/>
            </a:avLst>
          </a:prstGeom>
          <a:gradFill rotWithShape="0">
            <a:gsLst>
              <a:gs pos="0">
                <a:srgbClr val="00cc99"/>
              </a:gs>
              <a:gs pos="100000">
                <a:srgbClr val="00ff00"/>
              </a:gs>
            </a:gsLst>
            <a:lin ang="54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ctr">
            <a:noAutofit/>
          </a:bodyPr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День внедрен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5141320" y="15279480"/>
            <a:ext cx="5262480" cy="25174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59800" y="19242000"/>
            <a:ext cx="1021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84080" y="13792320"/>
            <a:ext cx="28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9038680" y="17032320"/>
            <a:ext cx="2473200" cy="223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22552200" y="15279840"/>
            <a:ext cx="2589120" cy="236664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140960" y="15279480"/>
            <a:ext cx="1144440" cy="24382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5150680" y="17032320"/>
            <a:ext cx="2473560" cy="223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1409200" y="17108640"/>
            <a:ext cx="237312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8111320" y="9637560"/>
            <a:ext cx="3305160" cy="345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4231600" y="499428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25373160" y="11163240"/>
            <a:ext cx="3430440" cy="1906560"/>
          </a:xfrm>
          <a:prstGeom prst="line">
            <a:avLst/>
          </a:prstGeom>
          <a:ln w="15228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295400" y="8345160"/>
            <a:ext cx="231480" cy="4267080"/>
          </a:xfrm>
          <a:prstGeom prst="line">
            <a:avLst/>
          </a:prstGeom>
          <a:ln w="15228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8195560" y="507060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25295400" y="8297640"/>
            <a:ext cx="3016080" cy="4467240"/>
          </a:xfrm>
          <a:prstGeom prst="line">
            <a:avLst/>
          </a:prstGeom>
          <a:ln cap="rnd" w="152280">
            <a:solidFill>
              <a:srgbClr val="3333cc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049400" y="8686800"/>
            <a:ext cx="39546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дел налоговой поли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582840" y="4524480"/>
            <a:ext cx="442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овый отд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2120" y="3809880"/>
            <a:ext cx="44211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 отдела ОТ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23542560" y="11847600"/>
            <a:ext cx="3305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0-10-22T04:04:21Z</dcterms:modified>
  <cp:revision>36</cp:revision>
  <dc:subject/>
  <dc:title>Заголовок слайда отсутствует</dc:title>
</cp:coreProperties>
</file>